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25E-66C8-4376-9CF5-89A562A7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864-DC96-4D03-9426-AF5ED6C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11B-E7C9-410F-A291-80D1CD8D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939-1338-4D65-84D0-4665D9DE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A57-A763-4754-A86A-583F15EB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1C0-13AE-46E1-90DF-9B1FBED6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ED9-1170-4240-A26B-5D55340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31E-C658-4E17-A185-4FD81282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9FF-8DB0-47FA-8E68-54148A6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139-6B59-4E2D-9F75-096C1D7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482-CEA6-4318-96C3-C5CEF8D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357-6C9F-422D-A9E3-17B75AE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E22-F12D-442F-82EC-39C6057978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omaszewski.eu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Firma EW-MARTOM 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zaprasza do zapoznania się 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ze specjalną ofertą skierowaną do szpitali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oraz gabinetów fizjoterap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le tekstowe 1"/>
          <p:cNvSpPr/>
          <p:nvPr/>
        </p:nvSpPr>
        <p:spPr>
          <a:xfrm>
            <a:off x="826920" y="836640"/>
            <a:ext cx="76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Wyżej wymienione produkty są wysoko cenione przez Szpital Powiatowy w Chodzieży oraz Szpital Specjalistyczny w Pile, z którymi Firma utrzymuje wieloletnią współpracę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Szpitale te, zamawiały wyżej zaprezentowane produkty na oddział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internistyczn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kardiologiczn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ortopedycz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rehabilitacyjny oraz chirurgicz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ostokąt 1"/>
          <p:cNvSpPr/>
          <p:nvPr/>
        </p:nvSpPr>
        <p:spPr>
          <a:xfrm>
            <a:off x="755640" y="476280"/>
            <a:ext cx="741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Firma EW-MARTOM wykonuje każdy rodzaj napraw </a:t>
            </a:r>
            <a:br>
              <a:rPr sz="2400"/>
            </a:b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i robót w zakresi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tapicerstwa szpitalnego (np. wymiana tapicerki łóżek, kozetek, ławek, fote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kaletnictwa i rymarstwa (np. naprawa pasów krępujący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naprawy sprzętu rehabilitacyjnego (np. materacy, pasów zabezpieczając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Firma wykonuje również inne usługi dostosowując się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do zapotrzebowania Klienta Medy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rostokąt 1"/>
          <p:cNvSpPr/>
          <p:nvPr/>
        </p:nvSpPr>
        <p:spPr>
          <a:xfrm>
            <a:off x="61128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Właściciel firmy i wykonawca, Marian Tomaszewski, gwarantuje wysoką jakość wykonania, skuteczność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oraz trwałość wyrobu, jak również łatwość montażu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i demontażu. Dysponuje również transportem, co umożliwia sprawny odbiór danego przedmiotu oraz jego dostarczenie, po wykonaniu usług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04040"/>
                </a:solidFill>
                <a:latin typeface="Calibri"/>
              </a:rPr>
              <a:t>Dziękuję za uwagę i zaprasz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04040"/>
                </a:solidFill>
                <a:latin typeface="Calibri"/>
              </a:rPr>
              <a:t>na stronę internetową mojej fir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omaszewski.eu</a:t>
            </a:r>
            <a:r>
              <a:rPr b="1" lang="pl-PL" sz="36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Kontakt: </a:t>
            </a: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Marian Tomaszew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ul. Kasprzaka 14, 64-800 Chodzie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tel. kom. : </a:t>
            </a:r>
            <a:r>
              <a:rPr b="0" lang="pl-PL" sz="2400" spc="-1" strike="noStrike">
                <a:solidFill>
                  <a:srgbClr val="404040"/>
                </a:solidFill>
                <a:latin typeface="Calibri"/>
              </a:rPr>
              <a:t>+ 48  </a:t>
            </a: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607  751  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e-mail: ew-martom@tomaszewski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611360" cy="13334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4"/>
          <p:cNvSpPr/>
          <p:nvPr/>
        </p:nvSpPr>
        <p:spPr>
          <a:xfrm>
            <a:off x="1042920" y="620640"/>
            <a:ext cx="748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W naszej ofercie znajdą Państwo akcesoria służące do unieruchomienia pacjenta na ręce, barki, nogi i klatkę piersiow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Są to tzw. opaski krępujące </a:t>
            </a:r>
            <a:br>
              <a:rPr sz="4000"/>
            </a:b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oraz paski zaciągające wykonane </a:t>
            </a:r>
            <a:br>
              <a:rPr sz="4000"/>
            </a:b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ze skóry i materiału techniczne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1728720" cy="191952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876400" cy="2232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4500720" y="404640"/>
            <a:ext cx="3430440" cy="29736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46" name="pole tekstowe 4"/>
          <p:cNvSpPr/>
          <p:nvPr/>
        </p:nvSpPr>
        <p:spPr>
          <a:xfrm>
            <a:off x="684360" y="2708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paski krępują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5"/>
          <p:cNvSpPr/>
          <p:nvPr/>
        </p:nvSpPr>
        <p:spPr>
          <a:xfrm>
            <a:off x="4572000" y="35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opaski krępu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3564000" y="4149720"/>
            <a:ext cx="2963880" cy="115092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49" name="pole tekstowe 7"/>
          <p:cNvSpPr/>
          <p:nvPr/>
        </p:nvSpPr>
        <p:spPr>
          <a:xfrm>
            <a:off x="3348000" y="5300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długie i krótkie pasy krępu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446120" cy="16002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3"/>
          <p:cNvSpPr/>
          <p:nvPr/>
        </p:nvSpPr>
        <p:spPr>
          <a:xfrm>
            <a:off x="971640" y="6206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1:</a:t>
            </a:r>
            <a:br>
              <a:rPr sz="3200"/>
            </a:b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rzedstawiamy Państwu zestaw opasek krępujących rękę oraz paski zaciągają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4495680" cy="3351240"/>
          </a:xfrm>
          <a:prstGeom prst="rect">
            <a:avLst/>
          </a:prstGeom>
          <a:ln w="19080">
            <a:solidFill>
              <a:srgbClr val="595959">
                <a:alpha val="91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2563920" cy="3025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037040" cy="3133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55" name="pole tekstowe 4"/>
          <p:cNvSpPr/>
          <p:nvPr/>
        </p:nvSpPr>
        <p:spPr>
          <a:xfrm>
            <a:off x="900000" y="620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Cd. - opaski krępujące rękę oraz paski zaciągają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ole tekstowe 1"/>
          <p:cNvSpPr/>
          <p:nvPr/>
        </p:nvSpPr>
        <p:spPr>
          <a:xfrm>
            <a:off x="971640" y="40464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opaski i paski krępujące kończynę dol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794040" cy="249408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537000" cy="259236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4764240" cy="2502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913200" cy="305748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61" name="pole tekstowe 5"/>
          <p:cNvSpPr/>
          <p:nvPr/>
        </p:nvSpPr>
        <p:spPr>
          <a:xfrm>
            <a:off x="1042920" y="404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Cd. pasy krępujące kończyny dol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33880" cy="2016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ole tekstowe 1"/>
          <p:cNvSpPr/>
          <p:nvPr/>
        </p:nvSpPr>
        <p:spPr>
          <a:xfrm>
            <a:off x="1042920" y="40464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asy krępujące bark, pozwalające na jego stabilizowanie lub unieruchomieni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2963880" cy="26496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2279520" cy="1315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2368800" cy="15746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Eva\Desktop\Oferta dla szpitali obrobiona MATRYCA\101_0099.JPG"/>
          <p:cNvPicPr/>
          <p:nvPr/>
        </p:nvPicPr>
        <p:blipFill>
          <a:blip r:embed="rId1"/>
          <a:stretch/>
        </p:blipFill>
        <p:spPr>
          <a:xfrm>
            <a:off x="1908000" y="2421000"/>
            <a:ext cx="2373480" cy="27986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8" name="Picture 3" descr="C:\Users\Eva\Desktop\Oferta dla szpitali obrobiona MATRYCA\101_0104.JPG"/>
          <p:cNvPicPr/>
          <p:nvPr/>
        </p:nvPicPr>
        <p:blipFill>
          <a:blip r:embed="rId2"/>
          <a:stretch/>
        </p:blipFill>
        <p:spPr>
          <a:xfrm>
            <a:off x="4716360" y="2852640"/>
            <a:ext cx="2322720" cy="280836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69" name="pole tekstowe 3"/>
          <p:cNvSpPr/>
          <p:nvPr/>
        </p:nvSpPr>
        <p:spPr>
          <a:xfrm>
            <a:off x="1116000" y="476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Cd. długie, samoprzylepne pasy pozwalające na unieruchomienie </a:t>
            </a:r>
            <a:br>
              <a:rPr sz="3200"/>
            </a:b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acjenta według potrze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20:09:46Z</dcterms:created>
  <dc:creator>Eva</dc:creator>
  <dc:description/>
  <dc:language>en-US</dc:language>
  <cp:lastModifiedBy>Eva</cp:lastModifiedBy>
  <dcterms:modified xsi:type="dcterms:W3CDTF">2010-11-09T21:36:12Z</dcterms:modified>
  <cp:revision>38</cp:revision>
  <dc:subject/>
  <dc:title>Firma EW-MARTOM zaprasza  do zapoznania się ze specjalną  ofertą skierowaną do szpitali oraz gabinetów fizjoterapii</dc:title>
</cp:coreProperties>
</file>