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E33-6FF6-4D9C-BD98-75FA54AE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19D-FD45-4233-A3DB-2DB52829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A4A-A8C1-4457-961C-23E05EBB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996-5F1D-4B6E-84F3-68B5DA07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74E-8F0E-4913-BBB7-439006D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457-EAFB-4EDF-9011-E9B5C17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26C-E8E3-41DB-978E-8B9AD78C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F5B-84D1-4233-B15C-59F2222A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C57-6450-4D27-A96F-F72BE63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269-F85E-4BD0-B4C7-253681F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F63-1869-4EDA-8CAC-06F4606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D75-EF67-4A2B-98D3-FEF1959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CF6-3937-4766-9E3C-19607466F5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omaszewski.eu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Firma EW-MARTOM 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zaprasza do zapoznania się 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ze specjalną ofertą skierowaną do szpitali</a:t>
            </a:r>
            <a:br>
              <a:rPr sz="4800"/>
            </a:br>
            <a:r>
              <a:rPr b="1" lang="pl-PL" sz="4800" spc="-1" strike="noStrike">
                <a:solidFill>
                  <a:srgbClr val="404040"/>
                </a:solidFill>
                <a:latin typeface="Calibri"/>
              </a:rPr>
              <a:t>oraz gabinetów fizjoterap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le tekstowe 1"/>
          <p:cNvSpPr/>
          <p:nvPr/>
        </p:nvSpPr>
        <p:spPr>
          <a:xfrm>
            <a:off x="826920" y="836640"/>
            <a:ext cx="76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Wyżej wymienione produkty są wysoko cenione przez Szpital Powiatowy w Chodzieży oraz Szpital Specjalistyczny w Pile, z którymi Firma utrzymuje wieloletnią współpracę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Szpitale te, zamawiały wyżej zaprezentowane produkty na oddział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internistyczn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kardiologiczn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ortopedycz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  <a:ea typeface="Arial"/>
              </a:rPr>
              <a:t>rehabilitacyjny oraz chirurgicz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ostokąt 1"/>
          <p:cNvSpPr/>
          <p:nvPr/>
        </p:nvSpPr>
        <p:spPr>
          <a:xfrm>
            <a:off x="755640" y="476280"/>
            <a:ext cx="741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Firma EW-MARTOM wykonuje każdy rodzaj napraw </a:t>
            </a:r>
            <a:br>
              <a:rPr sz="2400"/>
            </a:b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i robót w zakresi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tapicerstwa szpitalnego (np. wymiana tapicerki łóżek, kozetek, ławek, fote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kaletnictwa i rymarstwa (np. naprawa pasów krępujący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naprawy sprzętu rehabilitacyjnego (np. materacy, pasów zabezpieczając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Firma wykonuje również inne usługi dostosowując się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do zapotrzebowania Klienta Medy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rostokąt 1"/>
          <p:cNvSpPr/>
          <p:nvPr/>
        </p:nvSpPr>
        <p:spPr>
          <a:xfrm>
            <a:off x="61128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Właściciel firmy i wykonawca, Marian Tomaszewski, gwarantuje wysoką jakość wykonania, skuteczność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oraz trwałość wyrobu, jak również łatwość montażu </a:t>
            </a:r>
            <a:br>
              <a:rPr sz="2400"/>
            </a:b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i demontażu. Dysponuje również transportem, co umożliwia sprawny odbiór danego przedmiotu oraz jego dostarczenie, po wykonaniu usług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04040"/>
                </a:solidFill>
                <a:latin typeface="Calibri"/>
              </a:rPr>
              <a:t>Dziękuję za uwagę i zaprasz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04040"/>
                </a:solidFill>
                <a:latin typeface="Calibri"/>
              </a:rPr>
              <a:t>na stronę internetową mojej fir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omaszewski.eu</a:t>
            </a:r>
            <a:r>
              <a:rPr b="1" lang="pl-PL" sz="36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Kontakt: </a:t>
            </a: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Marian Tomaszew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ul. Kasprzaka 14, 64-800 Chodzie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tel. kom. : </a:t>
            </a:r>
            <a:r>
              <a:rPr b="0" lang="pl-PL" sz="2400" spc="-1" strike="noStrike">
                <a:solidFill>
                  <a:srgbClr val="404040"/>
                </a:solidFill>
                <a:latin typeface="Calibri"/>
              </a:rPr>
              <a:t>+ 48  </a:t>
            </a:r>
            <a:r>
              <a:rPr b="1" lang="pl-PL" sz="2400" spc="-1" strike="noStrike" u="sng">
                <a:solidFill>
                  <a:srgbClr val="404040"/>
                </a:solidFill>
                <a:uFillTx/>
                <a:latin typeface="Calibri"/>
              </a:rPr>
              <a:t>607  751  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4040"/>
                </a:solidFill>
                <a:latin typeface="Calibri"/>
              </a:rPr>
              <a:t>e-mail: ew-martom@tomaszewski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611360" cy="13334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4"/>
          <p:cNvSpPr/>
          <p:nvPr/>
        </p:nvSpPr>
        <p:spPr>
          <a:xfrm>
            <a:off x="1042920" y="620640"/>
            <a:ext cx="748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W naszej ofercie znajdą Państwo akcesoria służące do unieruchomienia pacjenta na ręce, barki, nogi i klatkę piersiow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Są to tzw. opaski krępujące </a:t>
            </a:r>
            <a:br>
              <a:rPr sz="4000"/>
            </a:b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oraz paski zaciągające wykonane </a:t>
            </a:r>
            <a:br>
              <a:rPr sz="4000"/>
            </a:br>
            <a:r>
              <a:rPr b="1" lang="pl-PL" sz="4000" spc="-1" strike="noStrike">
                <a:solidFill>
                  <a:srgbClr val="404040"/>
                </a:solidFill>
                <a:latin typeface="Calibri"/>
              </a:rPr>
              <a:t>ze skóry i materiału techniczne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1728720" cy="191952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876400" cy="2232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4500720" y="404640"/>
            <a:ext cx="3430440" cy="29736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46" name="pole tekstowe 4"/>
          <p:cNvSpPr/>
          <p:nvPr/>
        </p:nvSpPr>
        <p:spPr>
          <a:xfrm>
            <a:off x="684360" y="2708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paski krępują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5"/>
          <p:cNvSpPr/>
          <p:nvPr/>
        </p:nvSpPr>
        <p:spPr>
          <a:xfrm>
            <a:off x="4572000" y="35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opaski krępu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3564000" y="4149720"/>
            <a:ext cx="2963880" cy="115092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49" name="pole tekstowe 7"/>
          <p:cNvSpPr/>
          <p:nvPr/>
        </p:nvSpPr>
        <p:spPr>
          <a:xfrm>
            <a:off x="3348000" y="5300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długie i krótkie pasy krępu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446120" cy="16002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3"/>
          <p:cNvSpPr/>
          <p:nvPr/>
        </p:nvSpPr>
        <p:spPr>
          <a:xfrm>
            <a:off x="971640" y="6206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1:</a:t>
            </a:r>
            <a:br>
              <a:rPr sz="3200"/>
            </a:b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rzedstawiamy Państwu zestaw opasek krępujących rękę oraz paski zaciągają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4495680" cy="3351240"/>
          </a:xfrm>
          <a:prstGeom prst="rect">
            <a:avLst/>
          </a:prstGeom>
          <a:ln w="19080">
            <a:solidFill>
              <a:srgbClr val="595959">
                <a:alpha val="91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2563920" cy="3025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037040" cy="3133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55" name="pole tekstowe 4"/>
          <p:cNvSpPr/>
          <p:nvPr/>
        </p:nvSpPr>
        <p:spPr>
          <a:xfrm>
            <a:off x="900000" y="620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Cd. - opaski krępujące rękę oraz paski zaciągają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ole tekstowe 1"/>
          <p:cNvSpPr/>
          <p:nvPr/>
        </p:nvSpPr>
        <p:spPr>
          <a:xfrm>
            <a:off x="971640" y="40464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opaski i paski krępujące kończynę dol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794040" cy="249408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537000" cy="259236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4764240" cy="2502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913200" cy="305748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61" name="pole tekstowe 5"/>
          <p:cNvSpPr/>
          <p:nvPr/>
        </p:nvSpPr>
        <p:spPr>
          <a:xfrm>
            <a:off x="1042920" y="404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Cd. pasy krępujące kończyny dol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33880" cy="20160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ole tekstowe 1"/>
          <p:cNvSpPr/>
          <p:nvPr/>
        </p:nvSpPr>
        <p:spPr>
          <a:xfrm>
            <a:off x="1042920" y="40464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Grupa 4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asy krępujące bark, pozwalające na jego stabilizowanie lub unieruchomieni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2963880" cy="26496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2279520" cy="131580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2368800" cy="15746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Eva\Desktop\Oferta dla szpitali obrobiona MATRYCA\101_0099.JPG"/>
          <p:cNvPicPr/>
          <p:nvPr/>
        </p:nvPicPr>
        <p:blipFill>
          <a:blip r:embed="rId1"/>
          <a:stretch/>
        </p:blipFill>
        <p:spPr>
          <a:xfrm>
            <a:off x="1908000" y="2421000"/>
            <a:ext cx="2373480" cy="279864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pic>
        <p:nvPicPr>
          <p:cNvPr id="68" name="Picture 3" descr="C:\Users\Eva\Desktop\Oferta dla szpitali obrobiona MATRYCA\101_0104.JPG"/>
          <p:cNvPicPr/>
          <p:nvPr/>
        </p:nvPicPr>
        <p:blipFill>
          <a:blip r:embed="rId2"/>
          <a:stretch/>
        </p:blipFill>
        <p:spPr>
          <a:xfrm>
            <a:off x="4716360" y="2852640"/>
            <a:ext cx="2322720" cy="2808360"/>
          </a:xfrm>
          <a:prstGeom prst="rect">
            <a:avLst/>
          </a:prstGeom>
          <a:ln w="19080">
            <a:solidFill>
              <a:srgbClr val="595959"/>
            </a:solidFill>
            <a:miter/>
          </a:ln>
        </p:spPr>
      </p:pic>
      <p:sp>
        <p:nvSpPr>
          <p:cNvPr id="69" name="pole tekstowe 3"/>
          <p:cNvSpPr/>
          <p:nvPr/>
        </p:nvSpPr>
        <p:spPr>
          <a:xfrm>
            <a:off x="1116000" y="476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Cd. długie, samoprzylepne pasy pozwalające na unieruchomienie </a:t>
            </a:r>
            <a:br>
              <a:rPr sz="3200"/>
            </a:b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pacjenta według potrze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20:09:46Z</dcterms:created>
  <dc:creator>Eva</dc:creator>
  <dc:description/>
  <dc:language>en-US</dc:language>
  <cp:lastModifiedBy>Eva</cp:lastModifiedBy>
  <dcterms:modified xsi:type="dcterms:W3CDTF">2010-11-09T21:36:12Z</dcterms:modified>
  <cp:revision>38</cp:revision>
  <dc:subject/>
  <dc:title>Firma EW-MARTOM zaprasza  do zapoznania się ze specjalną  ofertą skierowaną do szpitali oraz gabinetów fizjoterapii</dc:title>
</cp:coreProperties>
</file>